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31F22-CC12-4716-8D87-2406BC794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97AA1-696B-4191-B959-208D59DEE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E65E7-704A-420A-9A73-918167373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D8E18-D636-4A31-838B-EEE15B3AF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32051-3937-4E36-A00F-B38092306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42880-D63B-4091-AC0A-29CE7872C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CF899-7411-412A-8B75-713EC8AC2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A8262-8D6A-49B9-AF2F-6714312DD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AD350-3475-4464-97C0-8D7C8892D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97B79-1734-4C79-BD3C-6271F9A4D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E1488-CEE8-463B-B5E4-D460C694D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9F1D5-B046-43CC-83F9-E52585450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487D5-651D-451F-8A83-7DE6CAD2F565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대구한의대부속 대구한방병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발표자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최창항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Welcome to Paradise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356000" y="1599840"/>
            <a:ext cx="47880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물리치료사 선생님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6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출근시간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8:3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업무시작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9:0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~ 5:3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점심시간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12:30 ~ 2:0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실습일지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기타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라인을 잘 타야 함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차로 가는 게 좋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인사 가는 게 좋음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79280" y="2606760"/>
            <a:ext cx="4038840" cy="25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수고하셨습니다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7:45:20Z</dcterms:created>
  <dc:creator>경상대 컴퓨터실 프린터</dc:creator>
  <dc:description/>
  <dc:language>en-US</dc:language>
  <cp:lastModifiedBy>경상대 컴퓨터실 프린터</cp:lastModifiedBy>
  <dcterms:modified xsi:type="dcterms:W3CDTF">2009-04-09T07:47:38Z</dcterms:modified>
  <cp:revision>2</cp:revision>
  <dc:subject/>
  <dc:title>대구한의대부속 대구한방병원</dc:title>
</cp:coreProperties>
</file>